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5.png" ContentType="image/png"/>
  <Override PartName="/ppt/media/image28.png" ContentType="image/png"/>
  <Override PartName="/ppt/media/image9.png" ContentType="image/png"/>
  <Override PartName="/ppt/media/image17.wmf" ContentType="image/x-wmf"/>
  <Override PartName="/ppt/media/image8.png" ContentType="image/png"/>
  <Override PartName="/ppt/media/image16.wmf" ContentType="image/x-wmf"/>
  <Override PartName="/ppt/media/image12.png" ContentType="image/png"/>
  <Override PartName="/ppt/media/image11.wmf" ContentType="image/x-wmf"/>
  <Override PartName="/ppt/media/image3.png" ContentType="image/png"/>
  <Override PartName="/ppt/media/image7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7.png" ContentType="image/png"/>
  <Override PartName="/ppt/media/image23.png" ContentType="image/png"/>
  <Override PartName="/ppt/media/voyborg2.wav" ContentType="audio/x-wav"/>
  <Override PartName="/ppt/media/image22.png" ContentType="image/png"/>
  <Override PartName="/ppt/media/image1.png" ContentType="image/png"/>
  <Override PartName="/ppt/media/image26.jpeg" ContentType="image/jpeg"/>
  <Override PartName="/ppt/media/image20.wmf" ContentType="image/x-wmf"/>
  <Override PartName="/ppt/media/image19.png" ContentType="image/png"/>
  <Override PartName="/ppt/media/image21.png" ContentType="image/png"/>
  <Override PartName="/ppt/media/image18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.png" ContentType="image/png"/>
  <Override PartName="/ppt/media/image25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EDF63-A900-456B-9CA8-CB4C91CC0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70C83-B1F3-40EF-9710-B9E27380A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61090-DE46-4BE6-ABDA-95E327D7A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EB040-3672-4544-92E9-160F8926D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6744C-9365-4AD1-9A0C-153F0F857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89FD0-6158-4D47-AF8A-5CEEDDB1E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6194C-2A5A-4979-AEB1-4CFB1F9D4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C1423-78D5-41EE-B132-2AF1AB693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23C50-BCA6-45FD-88E2-233B3CA2E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79F7B-AC34-4C32-A114-5817FC2FB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644DE-AB9B-43AD-A24A-E7AAE2465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23EA4-798C-487F-87BD-3F0D4A5E1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4C14F-40A1-42EB-BC59-5B87561AEC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vivelerock.espio.free.fr/ezines/tries/contenu.html" TargetMode="External"/><Relationship Id="rId2" Type="http://schemas.openxmlformats.org/officeDocument/2006/relationships/hyperlink" Target="http://vivelerock.espio.free.fr/ezines/tries/contenu.html" TargetMode="External"/><Relationship Id="rId3" Type="http://schemas.openxmlformats.org/officeDocument/2006/relationships/hyperlink" Target="http://vivelerock.espio.free.fr/ezines/tries/contenu.html" TargetMode="External"/><Relationship Id="rId4" Type="http://schemas.openxmlformats.org/officeDocument/2006/relationships/hyperlink" Target="http://vivelerock.espio.free.fr/ezines/tries/contenu.html" TargetMode="External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4.png"/><Relationship Id="rId3" Type="http://schemas.openxmlformats.org/officeDocument/2006/relationships/image" Target="../media/image22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audio" Target="../media/voyborg2.wav"/><Relationship Id="rId7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mindkind.org/" TargetMode="External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85800" y="609480"/>
            <a:ext cx="77724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4987800" y="4800600"/>
            <a:ext cx="4156200" cy="2322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0" name=""/>
          <p:cNvGraphicFramePr/>
          <p:nvPr/>
        </p:nvGraphicFramePr>
        <p:xfrm>
          <a:off x="0" y="0"/>
          <a:ext cx="9396360" cy="51944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396360" cy="519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219320" y="2057400"/>
            <a:ext cx="7238880" cy="22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Faudrait pas attendre 11 mois avant   dle releaser celui la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Toujours le seul eZine QC qui a de l’allure </a:t>
            </a:r>
            <a:r>
              <a:rPr b="0" lang="fr-CA" sz="2400" spc="-1" strike="noStrike">
                <a:solidFill>
                  <a:srgbClr val="ffffff"/>
                </a:solidFill>
                <a:latin typeface="Arial"/>
              </a:rPr>
              <a:t>(voir « </a:t>
            </a:r>
            <a:r>
              <a:rPr b="0" lang="fr-CA" sz="24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french</a:t>
            </a:r>
            <a:r>
              <a:rPr b="0" lang="fr-CA" sz="24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 </a:t>
            </a:r>
            <a:r>
              <a:rPr b="0" lang="fr-CA" sz="24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ezine</a:t>
            </a:r>
            <a:r>
              <a:rPr b="0" lang="fr-CA" sz="24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 </a:t>
            </a:r>
            <a:r>
              <a:rPr b="0" lang="fr-CA" sz="2400" spc="-1" strike="noStrike">
                <a:solidFill>
                  <a:srgbClr val="ffffff"/>
                </a:solidFill>
                <a:latin typeface="Arial"/>
              </a:rPr>
              <a:t>»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400" spc="-1" strike="noStrike">
                <a:solidFill>
                  <a:srgbClr val="ffffff"/>
                </a:solidFill>
                <a:latin typeface="Arial"/>
              </a:rPr>
              <a:t>Futur eZ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1219320" y="2057400"/>
            <a:ext cx="7238880" cy="37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Event principal au Québe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agnant l’année derniè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ssibilité de participer en tant qu’organisateur pour l’édition à venir (radio31337, …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400" spc="-1" strike="noStrike">
                <a:solidFill>
                  <a:srgbClr val="ffffff"/>
                </a:solidFill>
                <a:latin typeface="Arial"/>
              </a:rPr>
              <a:t>Hackfe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Empi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ff"/>
                </a:solidFill>
                <a:latin typeface="Times New Roman"/>
              </a:rPr>
              <a:t>Insèrer arbre sans les nicks (le faire dans wor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484360" y="2349360"/>
            <a:ext cx="4159440" cy="33912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539640" y="-67464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2556000" y="2421000"/>
            <a:ext cx="4014720" cy="327348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4"/>
          <a:stretch/>
        </p:blipFill>
        <p:spPr>
          <a:xfrm>
            <a:off x="2484360" y="-5317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5"/>
          <a:stretch/>
        </p:blipFill>
        <p:spPr>
          <a:xfrm>
            <a:off x="1692360" y="-603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3" dur="1" fill="hold"/>
                                        <p:tgtEl>
                                          <p:spTgt spid="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voyborg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78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2" dur="5557" fill="hold"/>
                                        <p:tgtEl>
                                          <p:spTgt spid="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5557"/>
                            </p:stCondLst>
                            <p:childTnLst>
                              <p:par>
                                <p:cTn id="18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8" dur="4663" fill="hold"/>
                                        <p:tgtEl>
                                          <p:spTgt spid="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219320" y="2057400"/>
            <a:ext cx="7238880" cy="37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Coding : Wyze, SeriousMan, __2; design : __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Encore plus giga-powerful que l’aut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A" sz="2800" spc="-1" strike="noStrike">
                <a:solidFill>
                  <a:srgbClr val="ffffff"/>
                </a:solidFill>
                <a:latin typeface="Arial"/>
              </a:rPr>
              <a:t>Hosting </a:t>
            </a:r>
            <a:r>
              <a:rPr b="0" lang="fr-CA" sz="28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www.mindkind.org</a:t>
            </a:r>
            <a:r>
              <a:rPr b="0" lang="fr-CA" sz="2800" spc="-1" strike="noStrike">
                <a:solidFill>
                  <a:srgbClr val="ffffff"/>
                </a:solidFill>
                <a:latin typeface="Arial"/>
              </a:rPr>
              <a:t> job a Wyze</a:t>
            </a:r>
            <a:r>
              <a:rPr b="0" lang="fr-CA" sz="2400" spc="-1" strike="noStrike">
                <a:solidFill>
                  <a:srgbClr val="ffffff"/>
                </a:solidFill>
                <a:latin typeface="Arial"/>
              </a:rPr>
              <a:t>, DNS de blk_ice,  emails ETS (Last), mkdwebdev machine dédié fourni par Last hoster job à Wy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A" sz="2400" spc="-1" strike="noStrike">
                <a:solidFill>
                  <a:srgbClr val="ffffff"/>
                </a:solidFill>
                <a:latin typeface="Arial"/>
              </a:rPr>
              <a:t>Site web affilié hack.fr… ?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400" spc="-1" strike="noStrike">
                <a:solidFill>
                  <a:srgbClr val="ffffff"/>
                </a:solidFill>
                <a:latin typeface="Arial"/>
              </a:rPr>
              <a:t>Futur site we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-541440" y="1844640"/>
            <a:ext cx="10296720" cy="44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Proje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990720" y="2133720"/>
            <a:ext cx="72388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900000" y="1916280"/>
            <a:ext cx="762012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CA" sz="3200" spc="-1" strike="noStrike">
                <a:solidFill>
                  <a:srgbClr val="ffffff"/>
                </a:solidFill>
                <a:latin typeface="Times New Roman"/>
              </a:rPr>
              <a:t>Mindkind Rally (chat/souri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CA" sz="3200" spc="-1" strike="noStrike">
                <a:solidFill>
                  <a:srgbClr val="ffffff"/>
                </a:solidFill>
                <a:latin typeface="Times New Roman"/>
              </a:rPr>
              <a:t>MKD Kamar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CA" sz="3200" spc="-1" strike="noStrike">
                <a:solidFill>
                  <a:srgbClr val="ffffff"/>
                </a:solidFill>
                <a:latin typeface="Times New Roman"/>
              </a:rPr>
              <a:t>MKDcrypt v2 (enfin?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CA" sz="3200" spc="-1" strike="noStrike">
                <a:solidFill>
                  <a:srgbClr val="ffffff"/>
                </a:solidFill>
                <a:latin typeface="Times New Roman"/>
              </a:rPr>
              <a:t>MKD echel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CA" sz="3200" spc="-1" strike="noStrike">
                <a:solidFill>
                  <a:srgbClr val="ffffff"/>
                </a:solidFill>
                <a:latin typeface="Times New Roman"/>
              </a:rPr>
              <a:t>(MMM) MazNet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CA" sz="3200" spc="-1" strike="noStrike">
                <a:solidFill>
                  <a:srgbClr val="ffffff"/>
                </a:solidFill>
                <a:latin typeface="Times New Roman"/>
              </a:rPr>
              <a:t>KEEP ALL INFO HERE SEMI-PRIVATE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1557360"/>
            <a:ext cx="9144000" cy="11732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179280" y="3141720"/>
            <a:ext cx="8964720" cy="11491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179280" y="4724280"/>
            <a:ext cx="8964720" cy="114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5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50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500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EO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1557360"/>
            <a:ext cx="4181400" cy="49593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4211640" y="1773360"/>
            <a:ext cx="5229360" cy="56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50920" y="1700280"/>
            <a:ext cx="8893080" cy="48988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763640" y="1341360"/>
            <a:ext cx="6391440" cy="96235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2411280" y="11253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1908000" y="0"/>
            <a:ext cx="5486400" cy="16635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484360" y="1773360"/>
            <a:ext cx="4329360" cy="44640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1763640" y="1773360"/>
            <a:ext cx="5326200" cy="44593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2124000" y="2133720"/>
            <a:ext cx="5327640" cy="37526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2916360" y="7101000"/>
            <a:ext cx="3246480" cy="34560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1763640" y="1989000"/>
            <a:ext cx="5686560" cy="4173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" dur="1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8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8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8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8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4" dur="20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20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219320" y="1523880"/>
            <a:ext cx="7238880" cy="57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Mindkind backgr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Quelques statistiq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CA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Futur eZ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</a:t>
            </a:r>
            <a:r>
              <a:rPr b="0" lang="fr-CA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HackF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</a:t>
            </a:r>
            <a:r>
              <a:rPr b="0" lang="fr-CA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Empi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Futur sites web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Running pro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Ordre du jou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219320" y="1600200"/>
            <a:ext cx="7238880" cy="50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Established 199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#sector_x 1999- 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#mindkind 2001 -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1er eZine mai 2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2ième sept. 2002, 3ième déc. 200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4ième déc. 200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5ième août 200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400" spc="-1" strike="noStrike">
                <a:solidFill>
                  <a:srgbClr val="ffffff"/>
                </a:solidFill>
                <a:latin typeface="Arial"/>
              </a:rPr>
              <a:t>Mindkind backgrou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219320" y="2057400"/>
            <a:ext cx="723888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eZine genre d’artic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Inflation des artic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Grosseur des eZi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A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NB articles et auteurs par eZ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Tailles des eZines (comparatives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Quelques statistiq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162000" y="0"/>
          <a:ext cx="9142200" cy="4857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2000" y="0"/>
                    <a:ext cx="9142200" cy="485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4896000" y="3673440"/>
            <a:ext cx="4248000" cy="31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8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8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8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8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0" y="169920"/>
          <a:ext cx="10044000" cy="4832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69920"/>
                    <a:ext cx="10044000" cy="483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4643280" y="4816440"/>
            <a:ext cx="3810240" cy="19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5060880"/>
            <a:ext cx="3824280" cy="240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539640" y="0"/>
          <a:ext cx="9144000" cy="56721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9640" y="0"/>
                    <a:ext cx="9144000" cy="567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"/>
          <p:cNvGraphicFramePr/>
          <p:nvPr/>
        </p:nvGraphicFramePr>
        <p:xfrm>
          <a:off x="609480" y="0"/>
          <a:ext cx="7925040" cy="6797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0"/>
                    <a:ext cx="7925040" cy="679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5638680" y="5697360"/>
            <a:ext cx="2595600" cy="11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5T22:24:08Z</dcterms:created>
  <dc:creator>LastCall_</dc:creator>
  <dc:description/>
  <dc:language>en-US</dc:language>
  <cp:lastModifiedBy>LastCall_</cp:lastModifiedBy>
  <dcterms:modified xsi:type="dcterms:W3CDTF">2004-11-06T02:10:03Z</dcterms:modified>
  <cp:revision>45</cp:revision>
  <dc:subject/>
  <dc:title>Présentation PowerPoint</dc:title>
</cp:coreProperties>
</file>